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4F0-4584-4A98-ABE2-C45B9EC1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F76-F255-4B85-A4A2-270C83D3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153-5B2B-47C6-ADFB-D9D76469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DA9-4788-4A24-BFF6-58C31225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B77-E45B-4FC5-90DA-30AF90BA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27B-7843-43B8-ACE1-260DA029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3254-9BB7-4F93-9DAD-095F8250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B74-611C-408B-AD58-313B31F9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ADB-58F5-487B-BBE1-2ADB37A6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C7D8-A435-48B6-9185-B8D2F770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ABB-CA47-462B-A4D6-89D40742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EC09-D567-4D23-AE7D-B9EF38A9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9A6-36DF-4156-81BF-481B61263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s describe Karankawas as a very tall people, who adorned themselves with tattoos and practiced body pierc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8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http://www.bchm.org/Austin/p5.gif"/>
          <p:cNvPicPr/>
          <p:nvPr/>
        </p:nvPicPr>
        <p:blipFill>
          <a:blip r:embed="rId1"/>
          <a:stretch/>
        </p:blipFill>
        <p:spPr>
          <a:xfrm>
            <a:off x="5867280" y="838080"/>
            <a:ext cx="2775240" cy="5562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y obtained food by a combination of hunting, fishing, and gathering. Fish, shellfish, and turtles were staples of the Karankawa diet, but a wide variety of animals and plants contributed to their sustenan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C:\Program Files\Microsoft Office\Clipart\standard\stddir1\BD06980_.WMF"/>
          <p:cNvPicPr/>
          <p:nvPr/>
        </p:nvPicPr>
        <p:blipFill>
          <a:blip r:embed="rId1"/>
          <a:stretch/>
        </p:blipFill>
        <p:spPr>
          <a:xfrm>
            <a:off x="4648320" y="2171880"/>
            <a:ext cx="380988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>
            <a:hlinkClick r:id="" action="ppaction://hlinkshowjump?jump=nextslide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arankawas were seasonal hunters and gathe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gout canoes laden with hides, pottery, fish traps, bows, arrows and other tools, carried families from one seasonal camp to an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Documents and Settings\MBHILL\My Documents\My Pictures\p3-26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3406680" cy="472428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6">
            <a:hlinkClick r:id="" action="ppaction://hlinkshowjump?jump=nex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rankaw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irankawas carried their summer home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opened up the walls to allow air to come through and cool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or was covered with clam shells to keep the interior dry and provide a base for cooking 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www.bchm.org/Austin/p3-27.gif"/>
          <p:cNvPicPr/>
          <p:nvPr/>
        </p:nvPicPr>
        <p:blipFill>
          <a:blip r:embed="rId1"/>
          <a:stretch/>
        </p:blipFill>
        <p:spPr>
          <a:xfrm>
            <a:off x="4876920" y="1523880"/>
            <a:ext cx="3774960" cy="38563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5">
            <a:hlinkClick r:id="" action="ppaction://hlinkshowjump?jump=nextslide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8:24:27Z</dcterms:created>
  <dc:creator>BISD</dc:creator>
  <dc:description/>
  <dc:language>en-US</dc:language>
  <cp:lastModifiedBy>McKinney ISD</cp:lastModifiedBy>
  <dcterms:modified xsi:type="dcterms:W3CDTF">2013-10-10T12:42:08Z</dcterms:modified>
  <cp:revision>8</cp:revision>
  <dc:subject/>
  <dc:title>Kirankawas</dc:title>
</cp:coreProperties>
</file>